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4.png" ContentType="image/png"/>
  <Override PartName="/ppt/media/image3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082-7503-4BD7-B34D-DCA11BA0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2210-5841-48F6-A75E-BF16B340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E219-07A0-4133-A4AD-5CBC5EF1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903A-ED60-4266-9B5F-5F400812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2168-991D-4A8C-9143-CC034B0C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633D-1A2D-454E-849C-11113D0F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D56D-D1B4-408B-8A8C-AF9385A4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F6A0-54FA-494D-873D-B5E6874F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D35B-757C-4BB7-8EBB-3E915CF4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9B57-743D-46EB-9F89-272E86E1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C949-7B74-4B93-800D-E7514214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0282-1354-4522-A47C-B8BD392B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EF2E-77DD-4E61-9671-3AB0AFE6E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89000" y="811080"/>
            <a:ext cx="696456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822240"/>
            <a:ext cx="70088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00080" y="800280"/>
            <a:ext cx="714384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1320" y="839880"/>
            <a:ext cx="691992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89000" y="822240"/>
            <a:ext cx="69645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66680" y="822240"/>
            <a:ext cx="70088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766800"/>
            <a:ext cx="70088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782640"/>
            <a:ext cx="700884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744480"/>
            <a:ext cx="700884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89000" y="811080"/>
            <a:ext cx="696456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800280"/>
            <a:ext cx="700884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811080"/>
            <a:ext cx="700884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89000" y="833400"/>
            <a:ext cx="696456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89000" y="789120"/>
            <a:ext cx="696456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66680" y="777960"/>
            <a:ext cx="700884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89000" y="789120"/>
            <a:ext cx="696456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89000" y="793800"/>
            <a:ext cx="696456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2760" y="789120"/>
            <a:ext cx="691848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89000" y="800280"/>
            <a:ext cx="6964560" cy="52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12760" y="800280"/>
            <a:ext cx="691848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11320" y="795240"/>
            <a:ext cx="6919920" cy="52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89000" y="771480"/>
            <a:ext cx="696456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12760" y="828720"/>
            <a:ext cx="691848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800280"/>
            <a:ext cx="700884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89000" y="828720"/>
            <a:ext cx="696456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12760" y="822240"/>
            <a:ext cx="691848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15:39:04Z</dcterms:created>
  <dc:creator>BealSt</dc:creator>
  <dc:description/>
  <dc:language>en-US</dc:language>
  <cp:lastModifiedBy>BealSt</cp:lastModifiedBy>
  <dcterms:modified xsi:type="dcterms:W3CDTF">2007-01-08T16:07:31Z</dcterms:modified>
  <cp:revision>3</cp:revision>
  <dc:subject/>
  <dc:title>Slide 1</dc:title>
</cp:coreProperties>
</file>